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chimes.wav" ContentType="audio/x-wav"/>
  <Override PartName="/ppt/media/image11.wmf" ContentType="image/x-wmf"/>
  <Override PartName="/ppt/media/image13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1.gif" ContentType="image/gif"/>
  <Override PartName="/ppt/media/image4.png" ContentType="image/png"/>
  <Override PartName="/ppt/media/Ding2.wav" ContentType="audio/x-wav"/>
  <Override PartName="/ppt/media/glass.wav" ContentType="audio/x-wav"/>
  <Override PartName="/ppt/media/image10.png" ContentType="image/png"/>
  <Override PartName="/ppt/media/applause.wav" ContentType="audio/x-wav"/>
  <Override PartName="/ppt/media/image6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C14E-260C-4ED1-8997-47F00CF31A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BC2F-B401-4950-A3E4-42EE507EA4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4017-3C88-40B9-A9D0-013898B606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826-FEEB-4965-BBED-8A6BF735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2DA-271A-4763-8453-C4C4AC5B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790-36BD-44D3-B8B6-F3CF4697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7A4-C762-4FF4-BD9E-84FEFC00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338-1F58-486A-89CE-829215D4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7D2-5B91-47D5-9099-DC8C8EA8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A67-987C-446B-9F73-71347C53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3B6-1E1B-4312-B1A1-B7D2A954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AB2-14A2-4B0B-8B22-5B27BF3B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0F4-4EBE-4452-AC74-20BB8820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FFB-29A3-4EEB-97EA-45FB9021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9BD-0C1C-4E26-B575-8E967A18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F0A2-0602-41C2-8099-2CB1022D27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audio" Target="../media/Ding2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762120"/>
            <a:ext cx="7467840" cy="556236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597384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71600" y="914400"/>
            <a:ext cx="54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27.2.1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相似三角形的判定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1)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685800" y="2362320"/>
          <a:ext cx="716292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362320"/>
                    <a:ext cx="7162920" cy="3657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231280" y="1718280"/>
            <a:ext cx="3005280" cy="380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09600" y="1394280"/>
            <a:ext cx="2391480" cy="467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99072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68580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22860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307240" y="1794600"/>
            <a:ext cx="3005280" cy="380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47520" y="1605960"/>
            <a:ext cx="2611080" cy="4560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99072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68580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029200" y="106668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914400"/>
            <a:ext cx="9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35053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35840" y="1870920"/>
            <a:ext cx="3004920" cy="380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20200" y="1709280"/>
            <a:ext cx="2703600" cy="4506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5872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75872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3504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590920"/>
            <a:ext cx="2286000" cy="2514600"/>
          </a:xfrm>
          <a:custGeom>
            <a:avLst/>
            <a:gdLst/>
            <a:ahLst/>
            <a:rect l="l" t="t" r="r" b="b"/>
            <a:pathLst>
              <a:path w="1440" h="1584">
                <a:moveTo>
                  <a:pt x="480" y="0"/>
                </a:moveTo>
                <a:lnTo>
                  <a:pt x="1248" y="0"/>
                </a:lnTo>
                <a:lnTo>
                  <a:pt x="0" y="1584"/>
                </a:lnTo>
                <a:lnTo>
                  <a:pt x="1440" y="1584"/>
                </a:lnTo>
                <a:lnTo>
                  <a:pt x="480" y="0"/>
                </a:lnTo>
                <a:close/>
              </a:path>
            </a:pathLst>
          </a:custGeom>
          <a:solidFill>
            <a:srgbClr val="ff669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4800600" y="456480"/>
            <a:ext cx="3581280" cy="2903400"/>
            <a:chOff x="4800600" y="456480"/>
            <a:chExt cx="3581280" cy="2903400"/>
          </a:xfrm>
        </p:grpSpPr>
        <p:grpSp>
          <p:nvGrpSpPr>
            <p:cNvPr id="213" name=""/>
            <p:cNvGrpSpPr/>
            <p:nvPr/>
          </p:nvGrpSpPr>
          <p:grpSpPr>
            <a:xfrm>
              <a:off x="4800600" y="762120"/>
              <a:ext cx="3581280" cy="2209680"/>
              <a:chOff x="4800600" y="762120"/>
              <a:chExt cx="3581280" cy="2209680"/>
            </a:xfrm>
          </p:grpSpPr>
          <p:sp>
            <p:nvSpPr>
              <p:cNvPr id="214" name=""/>
              <p:cNvSpPr/>
              <p:nvPr/>
            </p:nvSpPr>
            <p:spPr>
              <a:xfrm>
                <a:off x="4800600" y="76212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800600" y="144792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00600" y="297180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716440" y="456480"/>
              <a:ext cx="1597320" cy="282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194080" y="526320"/>
              <a:ext cx="1575360" cy="28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8509680" y="380880"/>
            <a:ext cx="633240" cy="2715120"/>
            <a:chOff x="8509680" y="380880"/>
            <a:chExt cx="633240" cy="2715120"/>
          </a:xfrm>
        </p:grpSpPr>
        <p:sp>
          <p:nvSpPr>
            <p:cNvPr id="220" name=""/>
            <p:cNvSpPr/>
            <p:nvPr/>
          </p:nvSpPr>
          <p:spPr>
            <a:xfrm>
              <a:off x="8509680" y="38088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509680" y="106668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09680" y="251460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334840" y="0"/>
            <a:ext cx="1751760" cy="581400"/>
            <a:chOff x="5334840" y="0"/>
            <a:chExt cx="1751760" cy="581400"/>
          </a:xfrm>
        </p:grpSpPr>
        <p:sp>
          <p:nvSpPr>
            <p:cNvPr id="224" name=""/>
            <p:cNvSpPr/>
            <p:nvPr/>
          </p:nvSpPr>
          <p:spPr>
            <a:xfrm>
              <a:off x="6400800" y="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34840" y="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410080" y="762120"/>
            <a:ext cx="1752840" cy="2209680"/>
            <a:chOff x="5410080" y="762120"/>
            <a:chExt cx="1752840" cy="2209680"/>
          </a:xfrm>
        </p:grpSpPr>
        <p:sp>
          <p:nvSpPr>
            <p:cNvPr id="227" name=""/>
            <p:cNvSpPr/>
            <p:nvPr/>
          </p:nvSpPr>
          <p:spPr>
            <a:xfrm>
              <a:off x="5410080" y="1447920"/>
              <a:ext cx="1752840" cy="1523880"/>
            </a:xfrm>
            <a:prstGeom prst="triangle">
              <a:avLst>
                <a:gd name="adj" fmla="val 50000"/>
              </a:avLst>
            </a:prstGeom>
            <a:solidFill>
              <a:srgbClr val="f1034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43600" y="762120"/>
              <a:ext cx="685800" cy="685800"/>
            </a:xfrm>
            <a:prstGeom prst="flowChartMerge">
              <a:avLst/>
            </a:prstGeom>
            <a:solidFill>
              <a:srgbClr val="f1034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4419720" y="0"/>
          <a:ext cx="4724280" cy="34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0"/>
                    <a:ext cx="47242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304920" y="0"/>
            <a:ext cx="4266000" cy="3294000"/>
            <a:chOff x="304920" y="0"/>
            <a:chExt cx="4266000" cy="3294000"/>
          </a:xfrm>
        </p:grpSpPr>
        <p:grpSp>
          <p:nvGrpSpPr>
            <p:cNvPr id="232" name=""/>
            <p:cNvGrpSpPr/>
            <p:nvPr/>
          </p:nvGrpSpPr>
          <p:grpSpPr>
            <a:xfrm>
              <a:off x="304920" y="363600"/>
              <a:ext cx="3581280" cy="2930400"/>
              <a:chOff x="304920" y="363600"/>
              <a:chExt cx="3581280" cy="29304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304920" y="762120"/>
                <a:ext cx="3581280" cy="2209680"/>
                <a:chOff x="304920" y="762120"/>
                <a:chExt cx="3581280" cy="22096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04920" y="762120"/>
                  <a:ext cx="358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04920" y="1447920"/>
                  <a:ext cx="358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04920" y="2971800"/>
                  <a:ext cx="358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647280" y="363600"/>
                <a:ext cx="2305800" cy="2930400"/>
                <a:chOff x="647280" y="363600"/>
                <a:chExt cx="2305800" cy="29304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618920" y="372240"/>
                  <a:ext cx="1334160" cy="2913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647280" y="363600"/>
                  <a:ext cx="1296000" cy="293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"/>
            <p:cNvGrpSpPr/>
            <p:nvPr/>
          </p:nvGrpSpPr>
          <p:grpSpPr>
            <a:xfrm>
              <a:off x="3937680" y="457200"/>
              <a:ext cx="633240" cy="2715120"/>
              <a:chOff x="3937680" y="457200"/>
              <a:chExt cx="633240" cy="2715120"/>
            </a:xfrm>
          </p:grpSpPr>
          <p:sp>
            <p:nvSpPr>
              <p:cNvPr id="241" name=""/>
              <p:cNvSpPr/>
              <p:nvPr/>
            </p:nvSpPr>
            <p:spPr>
              <a:xfrm>
                <a:off x="3937680" y="45720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37680" y="114300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937680" y="259092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220040" y="0"/>
              <a:ext cx="1218240" cy="581400"/>
              <a:chOff x="1220040" y="0"/>
              <a:chExt cx="1218240" cy="581400"/>
            </a:xfrm>
          </p:grpSpPr>
          <p:sp>
            <p:nvSpPr>
              <p:cNvPr id="245" name=""/>
              <p:cNvSpPr/>
              <p:nvPr/>
            </p:nvSpPr>
            <p:spPr>
              <a:xfrm>
                <a:off x="1752480" y="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20040" y="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762120" y="762120"/>
            <a:ext cx="2057400" cy="2209680"/>
            <a:chOff x="762120" y="762120"/>
            <a:chExt cx="2057400" cy="2209680"/>
          </a:xfrm>
        </p:grpSpPr>
        <p:sp>
          <p:nvSpPr>
            <p:cNvPr id="248" name=""/>
            <p:cNvSpPr/>
            <p:nvPr/>
          </p:nvSpPr>
          <p:spPr>
            <a:xfrm>
              <a:off x="762120" y="762120"/>
              <a:ext cx="2057400" cy="2209680"/>
            </a:xfrm>
            <a:prstGeom prst="triangle">
              <a:avLst>
                <a:gd name="adj" fmla="val 50000"/>
              </a:avLst>
            </a:prstGeom>
            <a:solidFill>
              <a:srgbClr val="f1034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7920" y="1447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954680" y="685800"/>
            <a:ext cx="2509560" cy="2410200"/>
            <a:chOff x="4954680" y="685800"/>
            <a:chExt cx="2509560" cy="2410200"/>
          </a:xfrm>
        </p:grpSpPr>
        <p:grpSp>
          <p:nvGrpSpPr>
            <p:cNvPr id="251" name=""/>
            <p:cNvGrpSpPr/>
            <p:nvPr/>
          </p:nvGrpSpPr>
          <p:grpSpPr>
            <a:xfrm>
              <a:off x="4954680" y="685800"/>
              <a:ext cx="2509560" cy="2410200"/>
              <a:chOff x="4954680" y="685800"/>
              <a:chExt cx="2509560" cy="2410200"/>
            </a:xfrm>
          </p:grpSpPr>
          <p:sp>
            <p:nvSpPr>
              <p:cNvPr id="252" name=""/>
              <p:cNvSpPr/>
              <p:nvPr/>
            </p:nvSpPr>
            <p:spPr>
              <a:xfrm>
                <a:off x="5640480" y="13716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954680" y="25146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012080" y="25146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575320" y="685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67400" y="685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5410080" y="762120"/>
              <a:ext cx="1752840" cy="2209680"/>
              <a:chOff x="5410080" y="762120"/>
              <a:chExt cx="1752840" cy="2209680"/>
            </a:xfrm>
          </p:grpSpPr>
          <p:sp>
            <p:nvSpPr>
              <p:cNvPr id="258" name=""/>
              <p:cNvSpPr/>
              <p:nvPr/>
            </p:nvSpPr>
            <p:spPr>
              <a:xfrm>
                <a:off x="5410080" y="1447920"/>
                <a:ext cx="1752840" cy="1523880"/>
              </a:xfrm>
              <a:prstGeom prst="triangle">
                <a:avLst>
                  <a:gd name="adj" fmla="val 50000"/>
                </a:avLst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43600" y="762120"/>
                <a:ext cx="685800" cy="685800"/>
              </a:xfrm>
              <a:prstGeom prst="flowChartMerge">
                <a:avLst/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0" name=""/>
          <p:cNvGraphicFramePr/>
          <p:nvPr/>
        </p:nvGraphicFramePr>
        <p:xfrm>
          <a:off x="0" y="0"/>
          <a:ext cx="4724280" cy="346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7242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459000" y="533520"/>
            <a:ext cx="2738160" cy="2437920"/>
            <a:chOff x="459000" y="533520"/>
            <a:chExt cx="2738160" cy="2437920"/>
          </a:xfrm>
        </p:grpSpPr>
        <p:grpSp>
          <p:nvGrpSpPr>
            <p:cNvPr id="263" name=""/>
            <p:cNvGrpSpPr/>
            <p:nvPr/>
          </p:nvGrpSpPr>
          <p:grpSpPr>
            <a:xfrm>
              <a:off x="459000" y="533520"/>
              <a:ext cx="2738160" cy="2409840"/>
              <a:chOff x="459000" y="533520"/>
              <a:chExt cx="2738160" cy="2409840"/>
            </a:xfrm>
          </p:grpSpPr>
          <p:sp>
            <p:nvSpPr>
              <p:cNvPr id="264" name=""/>
              <p:cNvSpPr/>
              <p:nvPr/>
            </p:nvSpPr>
            <p:spPr>
              <a:xfrm>
                <a:off x="1220760" y="533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9000" y="23619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5000" y="23619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992160" y="12189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11480" y="12189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762120" y="761760"/>
              <a:ext cx="2057400" cy="2209680"/>
              <a:chOff x="762120" y="761760"/>
              <a:chExt cx="2057400" cy="2209680"/>
            </a:xfrm>
          </p:grpSpPr>
          <p:sp>
            <p:nvSpPr>
              <p:cNvPr id="270" name=""/>
              <p:cNvSpPr/>
              <p:nvPr/>
            </p:nvSpPr>
            <p:spPr>
              <a:xfrm>
                <a:off x="762120" y="761760"/>
                <a:ext cx="2057400" cy="2209680"/>
              </a:xfrm>
              <a:prstGeom prst="triangle">
                <a:avLst>
                  <a:gd name="adj" fmla="val 50000"/>
                </a:avLst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47920" y="144756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380880" y="3429000"/>
            <a:ext cx="3886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∵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E∥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13080" y="3429000"/>
            <a:ext cx="3272760" cy="1770120"/>
            <a:chOff x="613080" y="3429000"/>
            <a:chExt cx="3272760" cy="1770120"/>
          </a:xfrm>
        </p:grpSpPr>
        <p:grpSp>
          <p:nvGrpSpPr>
            <p:cNvPr id="274" name=""/>
            <p:cNvGrpSpPr/>
            <p:nvPr/>
          </p:nvGrpSpPr>
          <p:grpSpPr>
            <a:xfrm>
              <a:off x="1170000" y="3429000"/>
              <a:ext cx="2715840" cy="1770120"/>
              <a:chOff x="1170000" y="3429000"/>
              <a:chExt cx="2715840" cy="1770120"/>
            </a:xfrm>
          </p:grpSpPr>
          <p:sp>
            <p:nvSpPr>
              <p:cNvPr id="275" name=""/>
              <p:cNvSpPr/>
              <p:nvPr/>
            </p:nvSpPr>
            <p:spPr>
              <a:xfrm>
                <a:off x="1218960" y="3429000"/>
                <a:ext cx="8380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 </a:t>
                </a: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D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14240" y="403848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65280" y="449568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70000" y="449568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1218960" y="4343400"/>
                <a:ext cx="2057400" cy="642600"/>
                <a:chOff x="1218960" y="4343400"/>
                <a:chExt cx="2057400" cy="6426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218960" y="4648320"/>
                  <a:ext cx="761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514240" y="4648320"/>
                  <a:ext cx="76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982160" y="4343400"/>
                  <a:ext cx="441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=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" name=""/>
            <p:cNvSpPr/>
            <p:nvPr/>
          </p:nvSpPr>
          <p:spPr>
            <a:xfrm flipV="1">
              <a:off x="613080" y="4264920"/>
              <a:ext cx="53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572000" y="3429000"/>
            <a:ext cx="3886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∵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E∥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51920" y="3429000"/>
            <a:ext cx="3425040" cy="1770120"/>
            <a:chOff x="4651920" y="3429000"/>
            <a:chExt cx="3425040" cy="1770120"/>
          </a:xfrm>
        </p:grpSpPr>
        <p:grpSp>
          <p:nvGrpSpPr>
            <p:cNvPr id="286" name=""/>
            <p:cNvGrpSpPr/>
            <p:nvPr/>
          </p:nvGrpSpPr>
          <p:grpSpPr>
            <a:xfrm>
              <a:off x="5361120" y="3429000"/>
              <a:ext cx="2715840" cy="1770120"/>
              <a:chOff x="5361120" y="3429000"/>
              <a:chExt cx="2715840" cy="1770120"/>
            </a:xfrm>
          </p:grpSpPr>
          <p:sp>
            <p:nvSpPr>
              <p:cNvPr id="287" name=""/>
              <p:cNvSpPr/>
              <p:nvPr/>
            </p:nvSpPr>
            <p:spPr>
              <a:xfrm>
                <a:off x="5410080" y="3429000"/>
                <a:ext cx="8380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 </a:t>
                </a: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D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705360" y="403848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656400" y="449568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61120" y="449568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5410080" y="4343400"/>
                <a:ext cx="2057400" cy="642600"/>
                <a:chOff x="5410080" y="4343400"/>
                <a:chExt cx="2057400" cy="6426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410080" y="4648320"/>
                  <a:ext cx="761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705360" y="4648320"/>
                  <a:ext cx="76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173280" y="4343400"/>
                  <a:ext cx="441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=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5" name=""/>
            <p:cNvSpPr/>
            <p:nvPr/>
          </p:nvSpPr>
          <p:spPr>
            <a:xfrm flipV="1">
              <a:off x="4651920" y="4341240"/>
              <a:ext cx="53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036800" y="29559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数学符号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83280" y="30481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数学符号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54100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平行于三角形一边的直线截其他两边（或两边的延长线），所得的对应线段的比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75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75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1080" y="0"/>
            <a:ext cx="9141480" cy="3910320"/>
            <a:chOff x="1080" y="0"/>
            <a:chExt cx="9141480" cy="3910320"/>
          </a:xfrm>
        </p:grpSpPr>
        <p:grpSp>
          <p:nvGrpSpPr>
            <p:cNvPr id="300" name=""/>
            <p:cNvGrpSpPr/>
            <p:nvPr/>
          </p:nvGrpSpPr>
          <p:grpSpPr>
            <a:xfrm>
              <a:off x="6707160" y="0"/>
              <a:ext cx="2435400" cy="3719880"/>
              <a:chOff x="6707160" y="0"/>
              <a:chExt cx="2435400" cy="371988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7162920" y="533520"/>
                <a:ext cx="1676160" cy="2895480"/>
                <a:chOff x="7162920" y="533520"/>
                <a:chExt cx="1676160" cy="2895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7162920" y="533520"/>
                  <a:ext cx="1676160" cy="289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543800" y="2209680"/>
                  <a:ext cx="914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707160" y="0"/>
                <a:ext cx="2435400" cy="3719880"/>
                <a:chOff x="6707160" y="0"/>
                <a:chExt cx="2435400" cy="37198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7697520" y="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707160" y="31384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B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667720" y="313848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C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011720" y="190512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D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383680" y="18288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E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0" name=""/>
            <p:cNvGrpSpPr/>
            <p:nvPr/>
          </p:nvGrpSpPr>
          <p:grpSpPr>
            <a:xfrm>
              <a:off x="1080" y="0"/>
              <a:ext cx="6929640" cy="3910320"/>
              <a:chOff x="1080" y="0"/>
              <a:chExt cx="6929640" cy="3910320"/>
            </a:xfrm>
          </p:grpSpPr>
          <p:sp>
            <p:nvSpPr>
              <p:cNvPr id="311" name=""/>
              <p:cNvSpPr/>
              <p:nvPr/>
            </p:nvSpPr>
            <p:spPr>
              <a:xfrm>
                <a:off x="1982160" y="1981080"/>
                <a:ext cx="99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—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080" y="0"/>
                <a:ext cx="6929640" cy="3910320"/>
                <a:chOff x="1080" y="0"/>
                <a:chExt cx="6929640" cy="391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34600" y="1981080"/>
                  <a:ext cx="994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—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1080" y="0"/>
                  <a:ext cx="6929640" cy="3910320"/>
                  <a:chOff x="1080" y="0"/>
                  <a:chExt cx="6929640" cy="3910320"/>
                </a:xfrm>
              </p:grpSpPr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446760" y="0"/>
                    <a:ext cx="1416960" cy="1236960"/>
                    <a:chOff x="446760" y="0"/>
                    <a:chExt cx="1416960" cy="123696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446760" y="0"/>
                      <a:ext cx="97920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333399"/>
                          </a:solidFill>
                          <a:latin typeface="Times New Roman"/>
                          <a:ea typeface="华文新魏"/>
                        </a:rPr>
                        <a:t>练习一</a:t>
                      </a:r>
                      <a:r>
                        <a:rPr b="1" lang="zh-CN" sz="4000" spc="-1" strike="noStrike">
                          <a:solidFill>
                            <a:srgbClr val="333399"/>
                          </a:solidFill>
                          <a:latin typeface="Times New Roman"/>
                          <a:ea typeface="华文新魏"/>
                        </a:rPr>
                        <a:t>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782640" y="533520"/>
                      <a:ext cx="108108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1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、判断题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1080" y="1143000"/>
                    <a:ext cx="6929640" cy="2767320"/>
                    <a:chOff x="1080" y="1143000"/>
                    <a:chExt cx="6929640" cy="276732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820440" y="1143000"/>
                      <a:ext cx="449928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如图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:DE∥BC,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下列各式是否正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0" name=""/>
                    <p:cNvGrpSpPr/>
                    <p:nvPr/>
                  </p:nvGrpSpPr>
                  <p:grpSpPr>
                    <a:xfrm>
                      <a:off x="1080" y="1828800"/>
                      <a:ext cx="6929640" cy="2081520"/>
                      <a:chOff x="1080" y="1828800"/>
                      <a:chExt cx="6929640" cy="2081520"/>
                    </a:xfrm>
                  </p:grpSpPr>
                  <p:grpSp>
                    <p:nvGrpSpPr>
                      <p:cNvPr id="321" name=""/>
                      <p:cNvGrpSpPr/>
                      <p:nvPr/>
                    </p:nvGrpSpPr>
                    <p:grpSpPr>
                      <a:xfrm>
                        <a:off x="3506400" y="2948040"/>
                        <a:ext cx="3348000" cy="962280"/>
                        <a:chOff x="3506400" y="2948040"/>
                        <a:chExt cx="3348000" cy="962280"/>
                      </a:xfrm>
                    </p:grpSpPr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3506400" y="3138480"/>
                          <a:ext cx="6105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D: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4039560" y="2948040"/>
                          <a:ext cx="2289960" cy="962280"/>
                          <a:chOff x="4039560" y="2948040"/>
                          <a:chExt cx="2289960" cy="962280"/>
                        </a:xfrm>
                      </p:grpSpPr>
                      <p:grpSp>
                        <p:nvGrpSpPr>
                          <p:cNvPr id="324" name=""/>
                          <p:cNvGrpSpPr/>
                          <p:nvPr/>
                        </p:nvGrpSpPr>
                        <p:grpSpPr>
                          <a:xfrm>
                            <a:off x="4039560" y="3100320"/>
                            <a:ext cx="2289960" cy="581400"/>
                            <a:chOff x="4039560" y="3100320"/>
                            <a:chExt cx="2289960" cy="581400"/>
                          </a:xfrm>
                        </p:grpSpPr>
                        <p:sp>
                          <p:nvSpPr>
                            <p:cNvPr id="325" name=""/>
                            <p:cNvSpPr/>
                            <p:nvPr/>
                          </p:nvSpPr>
                          <p:spPr>
                            <a:xfrm>
                              <a:off x="533484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0" lang="en-US" sz="3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26" name=""/>
                            <p:cNvSpPr/>
                            <p:nvPr/>
                          </p:nvSpPr>
                          <p:spPr>
                            <a:xfrm>
                              <a:off x="403956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0" lang="en-US" sz="3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27" name=""/>
                            <p:cNvSpPr/>
                            <p:nvPr/>
                          </p:nvSpPr>
                          <p:spPr>
                            <a:xfrm>
                              <a:off x="4960440" y="3100320"/>
                              <a:ext cx="42444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＝</a:t>
                              </a:r>
                              <a:endParaRPr b="0" lang="en-US" sz="3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>
                            <a:off x="4191840" y="294804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D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9" name=""/>
                          <p:cNvSpPr/>
                          <p:nvPr/>
                        </p:nvSpPr>
                        <p:spPr>
                          <a:xfrm>
                            <a:off x="4192200" y="332892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E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>
                            <a:off x="5487840" y="294804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B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>
                            <a:off x="5487480" y="332892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C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>
                          <a:off x="6096240" y="313848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3" name=""/>
                      <p:cNvGrpSpPr/>
                      <p:nvPr/>
                    </p:nvGrpSpPr>
                    <p:grpSpPr>
                      <a:xfrm>
                        <a:off x="1080" y="2948040"/>
                        <a:ext cx="3500640" cy="962280"/>
                        <a:chOff x="1080" y="2948040"/>
                        <a:chExt cx="3500640" cy="962280"/>
                      </a:xfrm>
                    </p:grpSpPr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>
                          <a:off x="1080" y="3138480"/>
                          <a:ext cx="6105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C: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35" name=""/>
                        <p:cNvGrpSpPr/>
                        <p:nvPr/>
                      </p:nvGrpSpPr>
                      <p:grpSpPr>
                        <a:xfrm>
                          <a:off x="458280" y="2948040"/>
                          <a:ext cx="2289960" cy="962280"/>
                          <a:chOff x="458280" y="2948040"/>
                          <a:chExt cx="2289960" cy="962280"/>
                        </a:xfrm>
                      </p:grpSpPr>
                      <p:grpSp>
                        <p:nvGrpSpPr>
                          <p:cNvPr id="336" name=""/>
                          <p:cNvGrpSpPr/>
                          <p:nvPr/>
                        </p:nvGrpSpPr>
                        <p:grpSpPr>
                          <a:xfrm>
                            <a:off x="458280" y="3100320"/>
                            <a:ext cx="2289960" cy="581400"/>
                            <a:chOff x="458280" y="3100320"/>
                            <a:chExt cx="2289960" cy="581400"/>
                          </a:xfrm>
                        </p:grpSpPr>
                        <p:sp>
                          <p:nvSpPr>
                            <p:cNvPr id="337" name=""/>
                            <p:cNvSpPr/>
                            <p:nvPr/>
                          </p:nvSpPr>
                          <p:spPr>
                            <a:xfrm>
                              <a:off x="175356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0" lang="en-US" sz="3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8" name=""/>
                            <p:cNvSpPr/>
                            <p:nvPr/>
                          </p:nvSpPr>
                          <p:spPr>
                            <a:xfrm>
                              <a:off x="45828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0" lang="en-US" sz="3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1379160" y="3100320"/>
                              <a:ext cx="42444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＝</a:t>
                              </a:r>
                              <a:endParaRPr b="0" lang="en-US" sz="3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610560" y="294804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D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"/>
                          <p:cNvSpPr/>
                          <p:nvPr/>
                        </p:nvSpPr>
                        <p:spPr>
                          <a:xfrm>
                            <a:off x="610560" y="332892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C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>
                            <a:off x="1906560" y="294804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E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>
                            <a:off x="1906560" y="332892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B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>
                          <a:off x="2743560" y="313848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5" name=""/>
                      <p:cNvGrpSpPr/>
                      <p:nvPr/>
                    </p:nvGrpSpPr>
                    <p:grpSpPr>
                      <a:xfrm>
                        <a:off x="3506760" y="1828800"/>
                        <a:ext cx="3423960" cy="962280"/>
                        <a:chOff x="3506760" y="1828800"/>
                        <a:chExt cx="3423960" cy="962280"/>
                      </a:xfrm>
                    </p:grpSpPr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>
                          <a:off x="3506760" y="1981080"/>
                          <a:ext cx="58752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B: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47" name=""/>
                        <p:cNvGrpSpPr/>
                        <p:nvPr/>
                      </p:nvGrpSpPr>
                      <p:grpSpPr>
                        <a:xfrm>
                          <a:off x="4115880" y="1981080"/>
                          <a:ext cx="2289960" cy="581400"/>
                          <a:chOff x="4115880" y="1981080"/>
                          <a:chExt cx="2289960" cy="581400"/>
                        </a:xfrm>
                      </p:grpSpPr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>
                            <a:off x="5411160" y="1981080"/>
                            <a:ext cx="9946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——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>
                            <a:off x="4115880" y="1981080"/>
                            <a:ext cx="9946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——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0" name=""/>
                          <p:cNvSpPr/>
                          <p:nvPr/>
                        </p:nvSpPr>
                        <p:spPr>
                          <a:xfrm>
                            <a:off x="5036760" y="1981080"/>
                            <a:ext cx="42444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＝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>
                          <a:off x="4198320" y="1828800"/>
                          <a:ext cx="7689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D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>
                          <a:off x="4198680" y="220968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BD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>
                          <a:off x="5564160" y="182880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E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>
                          <a:off x="5564160" y="220968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CE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>
                          <a:off x="6172560" y="198108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6" name=""/>
                      <p:cNvGrpSpPr/>
                      <p:nvPr/>
                    </p:nvGrpSpPr>
                    <p:grpSpPr>
                      <a:xfrm>
                        <a:off x="1080" y="1828800"/>
                        <a:ext cx="3652920" cy="962280"/>
                        <a:chOff x="1080" y="1828800"/>
                        <a:chExt cx="3652920" cy="962280"/>
                      </a:xfrm>
                    </p:grpSpPr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>
                          <a:off x="1080" y="1905120"/>
                          <a:ext cx="6105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: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>
                          <a:off x="686880" y="1828800"/>
                          <a:ext cx="7689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D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>
                          <a:off x="687240" y="220968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B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>
                          <a:off x="1531440" y="1981080"/>
                          <a:ext cx="42444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＝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>
                          <a:off x="2058840" y="182880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E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"/>
                        <p:cNvSpPr/>
                        <p:nvPr/>
                      </p:nvSpPr>
                      <p:spPr>
                        <a:xfrm>
                          <a:off x="2058480" y="2209680"/>
                          <a:ext cx="7689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C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>
                          <a:off x="2895840" y="205740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grpSp>
        <p:nvGrpSpPr>
          <p:cNvPr id="364" name=""/>
          <p:cNvGrpSpPr/>
          <p:nvPr/>
        </p:nvGrpSpPr>
        <p:grpSpPr>
          <a:xfrm>
            <a:off x="2949120" y="3188880"/>
            <a:ext cx="327240" cy="430560"/>
            <a:chOff x="2949120" y="3188880"/>
            <a:chExt cx="327240" cy="430560"/>
          </a:xfrm>
        </p:grpSpPr>
        <p:sp>
          <p:nvSpPr>
            <p:cNvPr id="365" name=""/>
            <p:cNvSpPr/>
            <p:nvPr/>
          </p:nvSpPr>
          <p:spPr>
            <a:xfrm>
              <a:off x="2971800" y="3238560"/>
              <a:ext cx="304560" cy="380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949120" y="3188880"/>
              <a:ext cx="273600" cy="4039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248520" y="3276720"/>
            <a:ext cx="609480" cy="406440"/>
          </a:xfrm>
          <a:custGeom>
            <a:avLst/>
            <a:gdLst/>
            <a:ahLst/>
            <a:rect l="l" t="t" r="r" b="b"/>
            <a:pathLst>
              <a:path w="384" h="256">
                <a:moveTo>
                  <a:pt x="0" y="96"/>
                </a:moveTo>
                <a:cubicBezTo>
                  <a:pt x="40" y="176"/>
                  <a:pt x="80" y="256"/>
                  <a:pt x="144" y="240"/>
                </a:cubicBezTo>
                <a:cubicBezTo>
                  <a:pt x="208" y="224"/>
                  <a:pt x="344" y="40"/>
                  <a:pt x="38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24480" y="2057400"/>
            <a:ext cx="609840" cy="406440"/>
          </a:xfrm>
          <a:custGeom>
            <a:avLst/>
            <a:gdLst/>
            <a:ahLst/>
            <a:rect l="l" t="t" r="r" b="b"/>
            <a:pathLst>
              <a:path w="384" h="256">
                <a:moveTo>
                  <a:pt x="0" y="96"/>
                </a:moveTo>
                <a:cubicBezTo>
                  <a:pt x="40" y="176"/>
                  <a:pt x="80" y="256"/>
                  <a:pt x="144" y="240"/>
                </a:cubicBezTo>
                <a:cubicBezTo>
                  <a:pt x="208" y="224"/>
                  <a:pt x="344" y="40"/>
                  <a:pt x="38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48120" y="2133720"/>
            <a:ext cx="609480" cy="406440"/>
          </a:xfrm>
          <a:custGeom>
            <a:avLst/>
            <a:gdLst/>
            <a:ahLst/>
            <a:rect l="l" t="t" r="r" b="b"/>
            <a:pathLst>
              <a:path w="384" h="256">
                <a:moveTo>
                  <a:pt x="0" y="96"/>
                </a:moveTo>
                <a:cubicBezTo>
                  <a:pt x="40" y="176"/>
                  <a:pt x="80" y="256"/>
                  <a:pt x="144" y="240"/>
                </a:cubicBezTo>
                <a:cubicBezTo>
                  <a:pt x="208" y="224"/>
                  <a:pt x="344" y="40"/>
                  <a:pt x="38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669360" y="3809880"/>
            <a:ext cx="2472120" cy="2638800"/>
            <a:chOff x="6669360" y="3809880"/>
            <a:chExt cx="2472120" cy="2638800"/>
          </a:xfrm>
        </p:grpSpPr>
        <p:grpSp>
          <p:nvGrpSpPr>
            <p:cNvPr id="371" name=""/>
            <p:cNvGrpSpPr/>
            <p:nvPr/>
          </p:nvGrpSpPr>
          <p:grpSpPr>
            <a:xfrm>
              <a:off x="6934320" y="4114800"/>
              <a:ext cx="1752480" cy="2209680"/>
              <a:chOff x="6934320" y="4114800"/>
              <a:chExt cx="1752480" cy="2209680"/>
            </a:xfrm>
          </p:grpSpPr>
          <p:sp>
            <p:nvSpPr>
              <p:cNvPr id="372" name=""/>
              <p:cNvSpPr/>
              <p:nvPr/>
            </p:nvSpPr>
            <p:spPr>
              <a:xfrm>
                <a:off x="6934320" y="4800600"/>
                <a:ext cx="1752480" cy="1523880"/>
              </a:xfrm>
              <a:prstGeom prst="triangle">
                <a:avLst>
                  <a:gd name="adj" fmla="val 50000"/>
                </a:avLst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467480" y="4114800"/>
                <a:ext cx="685440" cy="685800"/>
              </a:xfrm>
              <a:prstGeom prst="flowChartMerge">
                <a:avLst/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6669360" y="3809880"/>
              <a:ext cx="2472120" cy="2638800"/>
              <a:chOff x="6669360" y="3809880"/>
              <a:chExt cx="2472120" cy="2638800"/>
            </a:xfrm>
          </p:grpSpPr>
          <p:sp>
            <p:nvSpPr>
              <p:cNvPr id="375" name=""/>
              <p:cNvSpPr/>
              <p:nvPr/>
            </p:nvSpPr>
            <p:spPr>
              <a:xfrm>
                <a:off x="7365600" y="4495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69360" y="586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689320" y="586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097760" y="38098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191080" y="38098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116640" y="3733920"/>
            <a:ext cx="5981400" cy="2562480"/>
            <a:chOff x="116640" y="3733920"/>
            <a:chExt cx="5981400" cy="2562480"/>
          </a:xfrm>
        </p:grpSpPr>
        <p:sp>
          <p:nvSpPr>
            <p:cNvPr id="381" name=""/>
            <p:cNvSpPr/>
            <p:nvPr/>
          </p:nvSpPr>
          <p:spPr>
            <a:xfrm>
              <a:off x="934920" y="3733920"/>
              <a:ext cx="10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、填空题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9080" y="4343400"/>
              <a:ext cx="234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如图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DE∥BC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6640" y="487692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已知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839160" y="5181480"/>
              <a:ext cx="2208600" cy="1114920"/>
              <a:chOff x="839160" y="5181480"/>
              <a:chExt cx="2208600" cy="1114920"/>
            </a:xfrm>
          </p:grpSpPr>
          <p:sp>
            <p:nvSpPr>
              <p:cNvPr id="385" name=""/>
              <p:cNvSpPr/>
              <p:nvPr/>
            </p:nvSpPr>
            <p:spPr>
              <a:xfrm>
                <a:off x="2285640" y="518148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839160" y="5257800"/>
                <a:ext cx="2208600" cy="1038600"/>
                <a:chOff x="839160" y="5257800"/>
                <a:chExt cx="2208600" cy="10386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836360" y="5410440"/>
                  <a:ext cx="424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＝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839160" y="5257800"/>
                  <a:ext cx="994680" cy="962640"/>
                  <a:chOff x="839160" y="5257800"/>
                  <a:chExt cx="994680" cy="9626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839160" y="5410440"/>
                    <a:ext cx="9946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——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915840" y="5257800"/>
                    <a:ext cx="768960" cy="962640"/>
                    <a:chOff x="915840" y="5257800"/>
                    <a:chExt cx="768960" cy="96264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flipH="1">
                      <a:off x="937800" y="5257800"/>
                      <a:ext cx="74628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A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flipH="1">
                      <a:off x="915840" y="5639040"/>
                      <a:ext cx="76896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A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2211120" y="5410440"/>
                  <a:ext cx="836640" cy="885960"/>
                  <a:chOff x="2211120" y="5410440"/>
                  <a:chExt cx="836640" cy="88596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2211120" y="5410440"/>
                    <a:ext cx="5875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—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286000" y="5715000"/>
                    <a:ext cx="7617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5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6" name=""/>
            <p:cNvGrpSpPr/>
            <p:nvPr/>
          </p:nvGrpSpPr>
          <p:grpSpPr>
            <a:xfrm>
              <a:off x="3079800" y="4876920"/>
              <a:ext cx="3018240" cy="1112760"/>
              <a:chOff x="3079800" y="4876920"/>
              <a:chExt cx="3018240" cy="111276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3731760" y="4876920"/>
                <a:ext cx="2208600" cy="1112760"/>
                <a:chOff x="3731760" y="4876920"/>
                <a:chExt cx="2208600" cy="11127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178600" y="4876920"/>
                  <a:ext cx="76176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"/>
                <p:cNvGrpSpPr/>
                <p:nvPr/>
              </p:nvGrpSpPr>
              <p:grpSpPr>
                <a:xfrm>
                  <a:off x="3731760" y="4952880"/>
                  <a:ext cx="2208600" cy="1036800"/>
                  <a:chOff x="3731760" y="4952880"/>
                  <a:chExt cx="2208600" cy="103680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4728960" y="5105520"/>
                    <a:ext cx="424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＝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3731760" y="4952880"/>
                    <a:ext cx="994680" cy="962640"/>
                    <a:chOff x="3731760" y="4952880"/>
                    <a:chExt cx="994680" cy="96264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3731760" y="5105520"/>
                      <a:ext cx="99468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—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3" name=""/>
                    <p:cNvGrpSpPr/>
                    <p:nvPr/>
                  </p:nvGrpSpPr>
                  <p:grpSpPr>
                    <a:xfrm>
                      <a:off x="3808440" y="4952880"/>
                      <a:ext cx="768960" cy="962640"/>
                      <a:chOff x="3808440" y="4952880"/>
                      <a:chExt cx="768960" cy="962640"/>
                    </a:xfrm>
                  </p:grpSpPr>
                  <p:sp>
                    <p:nvSpPr>
                      <p:cNvPr id="404" name=""/>
                      <p:cNvSpPr/>
                      <p:nvPr/>
                    </p:nvSpPr>
                    <p:spPr>
                      <a:xfrm flipH="1">
                        <a:off x="3808440" y="4952880"/>
                        <a:ext cx="768960" cy="581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华文新魏"/>
                          </a:rPr>
                          <a:t>AD</a:t>
                        </a:r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 flipH="1">
                        <a:off x="3830400" y="5334120"/>
                        <a:ext cx="746280" cy="581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华文新魏"/>
                          </a:rPr>
                          <a:t>AB</a:t>
                        </a:r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102280" y="5116680"/>
                    <a:ext cx="838080" cy="873000"/>
                    <a:chOff x="5102280" y="5116680"/>
                    <a:chExt cx="838080" cy="87300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5102280" y="5116680"/>
                      <a:ext cx="184320" cy="57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5178600" y="5410080"/>
                      <a:ext cx="76176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09" name=""/>
              <p:cNvSpPr/>
              <p:nvPr/>
            </p:nvSpPr>
            <p:spPr>
              <a:xfrm>
                <a:off x="3079800" y="5029200"/>
                <a:ext cx="657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求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103360" y="5334120"/>
                <a:ext cx="99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—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3809880" y="4724280"/>
            <a:ext cx="2224080" cy="1114920"/>
            <a:chOff x="3809880" y="4724280"/>
            <a:chExt cx="2224080" cy="1114920"/>
          </a:xfrm>
        </p:grpSpPr>
        <p:sp>
          <p:nvSpPr>
            <p:cNvPr id="412" name=""/>
            <p:cNvSpPr/>
            <p:nvPr/>
          </p:nvSpPr>
          <p:spPr>
            <a:xfrm>
              <a:off x="5271840" y="47242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  <a:ea typeface="华文新魏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809880" y="4811760"/>
              <a:ext cx="2224080" cy="1027440"/>
              <a:chOff x="3809880" y="4811760"/>
              <a:chExt cx="2224080" cy="1027440"/>
            </a:xfrm>
          </p:grpSpPr>
          <p:sp>
            <p:nvSpPr>
              <p:cNvPr id="414" name=""/>
              <p:cNvSpPr/>
              <p:nvPr/>
            </p:nvSpPr>
            <p:spPr>
              <a:xfrm>
                <a:off x="4724280" y="4953240"/>
                <a:ext cx="18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809880" y="4811760"/>
                <a:ext cx="260640" cy="960480"/>
                <a:chOff x="3809880" y="4811760"/>
                <a:chExt cx="260640" cy="9604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809880" y="4964400"/>
                  <a:ext cx="1843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3886920" y="4811760"/>
                  <a:ext cx="183600" cy="960480"/>
                  <a:chOff x="3886920" y="4811760"/>
                  <a:chExt cx="183600" cy="96048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>
                    <a:off x="3886920" y="4811760"/>
                    <a:ext cx="18360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3886920" y="5193000"/>
                    <a:ext cx="18360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"/>
              <p:cNvGrpSpPr/>
              <p:nvPr/>
            </p:nvGrpSpPr>
            <p:grpSpPr>
              <a:xfrm>
                <a:off x="5197320" y="4953240"/>
                <a:ext cx="836640" cy="885960"/>
                <a:chOff x="5197320" y="4953240"/>
                <a:chExt cx="836640" cy="8859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197320" y="4953240"/>
                  <a:ext cx="587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66"/>
                      </a:solidFill>
                      <a:latin typeface="Times New Roman"/>
                      <a:ea typeface="华文新魏"/>
                    </a:rPr>
                    <a:t>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272200" y="5257800"/>
                  <a:ext cx="761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66"/>
                      </a:solidFill>
                      <a:latin typeface="Times New Roman"/>
                      <a:ea typeface="华文新魏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-609480" y="0"/>
            <a:ext cx="9275760" cy="5244840"/>
            <a:chOff x="-609480" y="0"/>
            <a:chExt cx="9275760" cy="5244840"/>
          </a:xfrm>
        </p:grpSpPr>
        <p:grpSp>
          <p:nvGrpSpPr>
            <p:cNvPr id="424" name=""/>
            <p:cNvGrpSpPr/>
            <p:nvPr/>
          </p:nvGrpSpPr>
          <p:grpSpPr>
            <a:xfrm>
              <a:off x="-609480" y="0"/>
              <a:ext cx="9275760" cy="5244840"/>
              <a:chOff x="-609480" y="0"/>
              <a:chExt cx="9275760" cy="524484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4878360" y="457200"/>
                <a:ext cx="3787920" cy="4787640"/>
                <a:chOff x="4878360" y="457200"/>
                <a:chExt cx="3787920" cy="478764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4878360" y="457200"/>
                  <a:ext cx="3787920" cy="4787640"/>
                  <a:chOff x="4878360" y="457200"/>
                  <a:chExt cx="3787920" cy="47876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7478640" y="457200"/>
                    <a:ext cx="58752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335560" y="3429000"/>
                    <a:ext cx="58752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B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7926120" y="3429000"/>
                    <a:ext cx="58752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C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878360" y="4343400"/>
                    <a:ext cx="62100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D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8078760" y="4419720"/>
                    <a:ext cx="58752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E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2" name=""/>
                <p:cNvSpPr/>
                <p:nvPr/>
              </p:nvSpPr>
              <p:spPr>
                <a:xfrm>
                  <a:off x="5486400" y="838080"/>
                  <a:ext cx="2575080" cy="4044960"/>
                </a:xfrm>
                <a:custGeom>
                  <a:avLst/>
                  <a:gdLst/>
                  <a:ahLst/>
                  <a:rect l="l" t="t" r="r" b="b"/>
                  <a:pathLst>
                    <a:path w="2448" h="2976">
                      <a:moveTo>
                        <a:pt x="1248" y="864"/>
                      </a:moveTo>
                      <a:lnTo>
                        <a:pt x="0" y="2976"/>
                      </a:lnTo>
                      <a:lnTo>
                        <a:pt x="2448" y="2976"/>
                      </a:lnTo>
                      <a:lnTo>
                        <a:pt x="1728" y="0"/>
                      </a:lnTo>
                      <a:lnTo>
                        <a:pt x="1248" y="86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">
                <a:hlinkClick r:id="rId1" action="ppaction://hlinksldjump"/>
              </p:cNvPr>
              <p:cNvSpPr/>
              <p:nvPr/>
            </p:nvSpPr>
            <p:spPr>
              <a:xfrm>
                <a:off x="500760" y="914400"/>
                <a:ext cx="5004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已知：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DE//BC, AB=15,AC=9,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BD=4 .   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求：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AE=</a:t>
                </a:r>
                <a:r>
                  <a:rPr b="1" lang="zh-CN" sz="3200" spc="-1" strike="noStrike">
                    <a:solidFill>
                      <a:srgbClr val="ff00ff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-609480" y="0"/>
                <a:ext cx="259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333399"/>
                    </a:solidFill>
                    <a:latin typeface="华文琥珀"/>
                    <a:ea typeface="华文琥珀"/>
                  </a:rPr>
                  <a:t>例题</a:t>
                </a:r>
                <a:r>
                  <a:rPr b="1" lang="zh-CN" sz="4800" spc="-1" strike="noStrike">
                    <a:solidFill>
                      <a:srgbClr val="333399"/>
                    </a:solidFill>
                    <a:latin typeface="华文琥珀"/>
                    <a:ea typeface="华文琥珀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5972040" y="3805200"/>
              <a:ext cx="186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58680" y="175248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华文新魏"/>
                <a:ea typeface="华文新魏"/>
              </a:rPr>
              <a:t>解</a:t>
            </a:r>
            <a:r>
              <a:rPr b="1" lang="en-US" sz="4800" spc="-1" strike="noStrike">
                <a:solidFill>
                  <a:srgbClr val="800080"/>
                </a:solidFill>
                <a:latin typeface="华文新魏"/>
                <a:ea typeface="华文新魏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43000" y="1066680"/>
            <a:ext cx="2819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60638"/>
                </a:solidFill>
                <a:latin typeface="Times New Roman"/>
              </a:rPr>
              <a:t>∵  </a:t>
            </a:r>
            <a:r>
              <a:rPr b="1" lang="en-US" sz="3600" spc="-1" strike="noStrike">
                <a:solidFill>
                  <a:srgbClr val="c60638"/>
                </a:solidFill>
                <a:latin typeface="Times New Roman"/>
              </a:rPr>
              <a:t>DE∥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70920" y="2133720"/>
            <a:ext cx="5643720" cy="1739880"/>
            <a:chOff x="70920" y="2133720"/>
            <a:chExt cx="5643720" cy="1739880"/>
          </a:xfrm>
        </p:grpSpPr>
        <p:grpSp>
          <p:nvGrpSpPr>
            <p:cNvPr id="439" name=""/>
            <p:cNvGrpSpPr/>
            <p:nvPr/>
          </p:nvGrpSpPr>
          <p:grpSpPr>
            <a:xfrm>
              <a:off x="70920" y="2133720"/>
              <a:ext cx="3432600" cy="1739880"/>
              <a:chOff x="70920" y="2133720"/>
              <a:chExt cx="3432600" cy="1739880"/>
            </a:xfrm>
          </p:grpSpPr>
          <p:sp>
            <p:nvSpPr>
              <p:cNvPr id="440" name=""/>
              <p:cNvSpPr/>
              <p:nvPr/>
            </p:nvSpPr>
            <p:spPr>
              <a:xfrm>
                <a:off x="515520" y="2133720"/>
                <a:ext cx="2620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AB        A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BD        C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70920" y="2867400"/>
                <a:ext cx="3432600" cy="642600"/>
                <a:chOff x="70920" y="2867400"/>
                <a:chExt cx="3432600" cy="6426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920" y="2867400"/>
                  <a:ext cx="49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c60638"/>
                      </a:solidFill>
                      <a:latin typeface="Times New Roman"/>
                    </a:rPr>
                    <a:t>∴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95160" y="2867400"/>
                  <a:ext cx="1095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c60638"/>
                      </a:solidFill>
                      <a:latin typeface="Times New Roman"/>
                    </a:rPr>
                    <a:t>——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408400" y="2867400"/>
                  <a:ext cx="1095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c60638"/>
                      </a:solidFill>
                      <a:latin typeface="Times New Roman"/>
                    </a:rPr>
                    <a:t>——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905840" y="286740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c60638"/>
                      </a:solidFill>
                      <a:latin typeface="Times New Roman"/>
                    </a:rPr>
                    <a:t>＝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3645720" y="2822760"/>
              <a:ext cx="206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60638"/>
                  </a:solidFill>
                  <a:latin typeface="Times New Roman"/>
                </a:rPr>
                <a:t>（推论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04040" y="3124080"/>
            <a:ext cx="3092760" cy="1739880"/>
            <a:chOff x="104040" y="3124080"/>
            <a:chExt cx="3092760" cy="1739880"/>
          </a:xfrm>
        </p:grpSpPr>
        <p:sp>
          <p:nvSpPr>
            <p:cNvPr id="448" name=""/>
            <p:cNvSpPr/>
            <p:nvPr/>
          </p:nvSpPr>
          <p:spPr>
            <a:xfrm>
              <a:off x="459000" y="3124080"/>
              <a:ext cx="2644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60638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c60638"/>
                  </a:solidFill>
                  <a:latin typeface="Times New Roman"/>
                </a:rPr>
                <a:t>15          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60638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c60638"/>
                  </a:solidFill>
                  <a:latin typeface="Times New Roman"/>
                </a:rPr>
                <a:t>4          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04040" y="3809880"/>
              <a:ext cx="3092760" cy="724320"/>
              <a:chOff x="104040" y="3809880"/>
              <a:chExt cx="3092760" cy="724320"/>
            </a:xfrm>
          </p:grpSpPr>
          <p:sp>
            <p:nvSpPr>
              <p:cNvPr id="450" name=""/>
              <p:cNvSpPr/>
              <p:nvPr/>
            </p:nvSpPr>
            <p:spPr>
              <a:xfrm>
                <a:off x="659520" y="3891600"/>
                <a:ext cx="109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—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101680" y="3891600"/>
                <a:ext cx="109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—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94160" y="38916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60638"/>
                    </a:solidFill>
                    <a:latin typeface="Times New Roman"/>
                  </a:rPr>
                  <a:t>＝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4040" y="380988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c60638"/>
                    </a:solidFill>
                    <a:latin typeface="Times New Roman"/>
                    <a:ea typeface="华文新魏"/>
                  </a:rPr>
                  <a:t>即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72360" y="4191120"/>
            <a:ext cx="3051720" cy="1739880"/>
            <a:chOff x="72360" y="4191120"/>
            <a:chExt cx="3051720" cy="1739880"/>
          </a:xfrm>
        </p:grpSpPr>
        <p:sp>
          <p:nvSpPr>
            <p:cNvPr id="455" name=""/>
            <p:cNvSpPr/>
            <p:nvPr/>
          </p:nvSpPr>
          <p:spPr>
            <a:xfrm>
              <a:off x="1787040" y="50292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60638"/>
                  </a:solidFill>
                  <a:latin typeface="Times New Roman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72360" y="4191120"/>
              <a:ext cx="3051720" cy="1739880"/>
              <a:chOff x="72360" y="4191120"/>
              <a:chExt cx="3051720" cy="1739880"/>
            </a:xfrm>
          </p:grpSpPr>
          <p:sp>
            <p:nvSpPr>
              <p:cNvPr id="457" name=""/>
              <p:cNvSpPr/>
              <p:nvPr/>
            </p:nvSpPr>
            <p:spPr>
              <a:xfrm>
                <a:off x="306360" y="4191120"/>
                <a:ext cx="26953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60638"/>
                    </a:solidFill>
                    <a:latin typeface="Times New Roman"/>
                  </a:rPr>
                  <a:t>                  </a:t>
                </a:r>
                <a:r>
                  <a:rPr b="1" lang="zh-CN" sz="3600" spc="-1" strike="noStrike">
                    <a:solidFill>
                      <a:srgbClr val="c60638"/>
                    </a:solidFill>
                    <a:latin typeface="Times New Roman"/>
                  </a:rPr>
                  <a:t>1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60638"/>
                    </a:solidFill>
                    <a:latin typeface="Times New Roman"/>
                  </a:rPr>
                  <a:t>                   </a:t>
                </a:r>
                <a:r>
                  <a:rPr b="1" lang="zh-CN" sz="3600" spc="-1" strike="noStrike">
                    <a:solidFill>
                      <a:srgbClr val="c60638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62320" y="502920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2360" y="5029200"/>
                <a:ext cx="49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∴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15840" y="5029200"/>
                <a:ext cx="81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C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72360" y="5715000"/>
            <a:ext cx="6315480" cy="1144800"/>
            <a:chOff x="72360" y="5715000"/>
            <a:chExt cx="6315480" cy="1144800"/>
          </a:xfrm>
        </p:grpSpPr>
        <p:sp>
          <p:nvSpPr>
            <p:cNvPr id="462" name=""/>
            <p:cNvSpPr/>
            <p:nvPr/>
          </p:nvSpPr>
          <p:spPr>
            <a:xfrm>
              <a:off x="4277160" y="57913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60638"/>
                  </a:solidFill>
                  <a:latin typeface="Times New Roman"/>
                  <a:ea typeface="华文新魏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72360" y="5715000"/>
              <a:ext cx="6315480" cy="1144800"/>
              <a:chOff x="72360" y="5715000"/>
              <a:chExt cx="6315480" cy="1144800"/>
            </a:xfrm>
          </p:grpSpPr>
          <p:sp>
            <p:nvSpPr>
              <p:cNvPr id="464" name=""/>
              <p:cNvSpPr/>
              <p:nvPr/>
            </p:nvSpPr>
            <p:spPr>
              <a:xfrm>
                <a:off x="5944680" y="57150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60638"/>
                    </a:solidFill>
                    <a:latin typeface="Times New Roman"/>
                    <a:ea typeface="华文新魏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72360" y="5867280"/>
                <a:ext cx="6315480" cy="992520"/>
                <a:chOff x="72360" y="5867280"/>
                <a:chExt cx="6315480" cy="9925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5944680" y="627840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60638"/>
                      </a:solidFill>
                      <a:latin typeface="Times New Roman"/>
                      <a:ea typeface="华文新魏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379400" y="627840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60638"/>
                      </a:solidFill>
                      <a:latin typeface="Times New Roman"/>
                      <a:ea typeface="华文新魏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72360" y="5867280"/>
                  <a:ext cx="6315480" cy="657720"/>
                  <a:chOff x="72360" y="5867280"/>
                  <a:chExt cx="6315480" cy="6577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72360" y="5867280"/>
                    <a:ext cx="4993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c60638"/>
                        </a:solidFill>
                        <a:latin typeface="Times New Roman"/>
                      </a:rPr>
                      <a:t>∴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685800" y="5867280"/>
                    <a:ext cx="570204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c60638"/>
                        </a:solidFill>
                        <a:latin typeface="Times New Roman"/>
                      </a:rPr>
                      <a:t>AE= AC+CE=9+         =11—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278240" y="5943600"/>
                    <a:ext cx="5875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c60638"/>
                        </a:solidFill>
                        <a:latin typeface="Times New Roman"/>
                        <a:ea typeface="华文新魏"/>
                      </a:rPr>
                      <a:t>—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练习二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295280" y="449568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21354600">
            <a:off x="6157440" y="259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18040" y="2849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0720" y="170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1040" y="2849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1052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830240" y="59436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78160" y="55627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77800" y="59436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753560" y="5715000"/>
            <a:ext cx="2442600" cy="581400"/>
            <a:chOff x="1753560" y="5715000"/>
            <a:chExt cx="2442600" cy="581400"/>
          </a:xfrm>
        </p:grpSpPr>
        <p:sp>
          <p:nvSpPr>
            <p:cNvPr id="483" name=""/>
            <p:cNvSpPr/>
            <p:nvPr/>
          </p:nvSpPr>
          <p:spPr>
            <a:xfrm>
              <a:off x="3201480" y="5715000"/>
              <a:ext cx="99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53560" y="5715000"/>
              <a:ext cx="99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50760" y="5715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487836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78360" y="4648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49960" y="4191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38332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8368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-380880" y="533520"/>
            <a:ext cx="2361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(A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组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342900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(B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组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46200" y="1387440"/>
            <a:ext cx="3976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已知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E∥B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B = 14,  AC = 18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E = 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92360" y="4049640"/>
            <a:ext cx="3754440" cy="2181600"/>
            <a:chOff x="792360" y="4049640"/>
            <a:chExt cx="3754440" cy="2181600"/>
          </a:xfrm>
        </p:grpSpPr>
        <p:grpSp>
          <p:nvGrpSpPr>
            <p:cNvPr id="495" name=""/>
            <p:cNvGrpSpPr/>
            <p:nvPr/>
          </p:nvGrpSpPr>
          <p:grpSpPr>
            <a:xfrm>
              <a:off x="792360" y="4049640"/>
              <a:ext cx="3754440" cy="2181600"/>
              <a:chOff x="792360" y="4049640"/>
              <a:chExt cx="3754440" cy="2181600"/>
            </a:xfrm>
          </p:grpSpPr>
          <p:sp>
            <p:nvSpPr>
              <p:cNvPr id="496" name=""/>
              <p:cNvSpPr/>
              <p:nvPr/>
            </p:nvSpPr>
            <p:spPr>
              <a:xfrm>
                <a:off x="1000080" y="4049640"/>
                <a:ext cx="354672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、如图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: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已知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AB⊥BD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ED⊥BD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，垂足分别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B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、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D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92360" y="5649840"/>
                <a:ext cx="912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求证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1764720" y="557388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92640" y="3897360"/>
            <a:ext cx="1295640" cy="914400"/>
          </a:xfrm>
          <a:prstGeom prst="rtTriangle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6411960" y="4811040"/>
            <a:ext cx="2362320" cy="1600200"/>
          </a:xfrm>
          <a:prstGeom prst="rtTriangle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572000" y="692280"/>
            <a:ext cx="3657600" cy="2514600"/>
            <a:chOff x="4572000" y="692280"/>
            <a:chExt cx="3657600" cy="2514600"/>
          </a:xfrm>
        </p:grpSpPr>
        <p:sp>
          <p:nvSpPr>
            <p:cNvPr id="502" name=""/>
            <p:cNvSpPr/>
            <p:nvPr/>
          </p:nvSpPr>
          <p:spPr>
            <a:xfrm>
              <a:off x="4572000" y="692280"/>
              <a:ext cx="3657600" cy="2514600"/>
            </a:xfrm>
            <a:prstGeom prst="triangle">
              <a:avLst>
                <a:gd name="adj" fmla="val 44315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281200" y="206064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rId1" action="ppaction://hlinksldjump"/>
          </p:cNvPr>
          <p:cNvSpPr/>
          <p:nvPr/>
        </p:nvSpPr>
        <p:spPr>
          <a:xfrm>
            <a:off x="8686800" y="533520"/>
            <a:ext cx="457200" cy="380880"/>
          </a:xfrm>
          <a:custGeom>
            <a:avLst/>
            <a:gdLst>
              <a:gd name="textAreaLeft" fmla="*/ 95040 w 457200"/>
              <a:gd name="textAreaRight" fmla="*/ 36216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0524" y="5400"/>
                </a:lnTo>
                <a:lnTo>
                  <a:pt x="5400" y="5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0524" y="16200"/>
                </a:lnTo>
                <a:lnTo>
                  <a:pt x="20524" y="5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524" y="16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43680" y="48769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B = 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364120" y="51814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363760" y="472428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45760" y="4952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09880" y="4876920"/>
            <a:ext cx="762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16360" y="3789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21360" y="114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259600" y="2514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69280" y="2514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16440" y="457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35760" y="457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724360" y="285264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895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达标检测题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50320" y="1387440"/>
            <a:ext cx="356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已知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E∥B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B = 5,  AC = 7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D= 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1295280"/>
            <a:ext cx="1752840" cy="1524240"/>
          </a:xfrm>
          <a:prstGeom prst="triangle">
            <a:avLst>
              <a:gd name="adj" fmla="val 50000"/>
            </a:avLst>
          </a:prstGeom>
          <a:solidFill>
            <a:srgbClr val="ff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72200" y="609480"/>
            <a:ext cx="685800" cy="685800"/>
          </a:xfrm>
          <a:prstGeom prst="flowChartMerge">
            <a:avLst/>
          </a:prstGeom>
          <a:solidFill>
            <a:srgbClr val="ff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5488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468920" y="6278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690040" y="4648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-457200" y="533520"/>
            <a:ext cx="2362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(A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组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429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(B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组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191240" y="3962520"/>
            <a:ext cx="3157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已知 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 =∠E=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10760" y="49528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983120" y="3053160"/>
            <a:ext cx="4069440" cy="3651480"/>
            <a:chOff x="4983120" y="3053160"/>
            <a:chExt cx="4069440" cy="3651480"/>
          </a:xfrm>
        </p:grpSpPr>
        <p:sp>
          <p:nvSpPr>
            <p:cNvPr id="530" name=""/>
            <p:cNvSpPr/>
            <p:nvPr/>
          </p:nvSpPr>
          <p:spPr>
            <a:xfrm rot="7554600">
              <a:off x="5409720" y="3200040"/>
              <a:ext cx="1219320" cy="1676520"/>
            </a:xfrm>
            <a:prstGeom prst="triangle">
              <a:avLst>
                <a:gd name="adj" fmla="val 57472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402600">
              <a:off x="6705360" y="4115160"/>
              <a:ext cx="1752480" cy="2361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830040" y="4724280"/>
            <a:ext cx="740160" cy="1142640"/>
            <a:chOff x="3830040" y="4724280"/>
            <a:chExt cx="740160" cy="1142640"/>
          </a:xfrm>
        </p:grpSpPr>
        <p:sp>
          <p:nvSpPr>
            <p:cNvPr id="533" name=""/>
            <p:cNvSpPr/>
            <p:nvPr/>
          </p:nvSpPr>
          <p:spPr>
            <a:xfrm>
              <a:off x="3830040" y="482400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431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83040" y="5224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>
            <a:hlinkClick r:id="" action="ppaction://hlinkshowjump?jump=previousslide"/>
          </p:cNvPr>
          <p:cNvSpPr/>
          <p:nvPr/>
        </p:nvSpPr>
        <p:spPr>
          <a:xfrm>
            <a:off x="8534520" y="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11280" y="2276640"/>
            <a:ext cx="5180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△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//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E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,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C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,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△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D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△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什么关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3190680" cy="31622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468360" y="1413000"/>
            <a:ext cx="8424720" cy="3887640"/>
          </a:xfrm>
          <a:prstGeom prst="flowChartProcess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26920" y="476280"/>
            <a:ext cx="1008360" cy="122400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224000"/>
              <a:gd name="textAreaBottom" fmla="*/ 1158840 h 1224000"/>
            </a:gdLst>
            <a:ahLst/>
            <a:rect l="textAreaLeft" t="textAreaTop" r="textAreaRight" b="textAreaBottom"/>
            <a:pathLst>
              <a:path w="21600" h="26218">
                <a:moveTo>
                  <a:pt x="0" y="0"/>
                </a:moveTo>
                <a:lnTo>
                  <a:pt x="21600" y="0"/>
                </a:lnTo>
                <a:lnTo>
                  <a:pt x="21600" y="26218"/>
                </a:lnTo>
                <a:lnTo>
                  <a:pt x="0" y="26218"/>
                </a:lnTo>
                <a:close/>
              </a:path>
              <a:path fill="lightenLess" w="21600" h="262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18">
                <a:moveTo>
                  <a:pt x="21600" y="0"/>
                </a:moveTo>
                <a:lnTo>
                  <a:pt x="21600" y="26218"/>
                </a:lnTo>
                <a:lnTo>
                  <a:pt x="20200" y="24818"/>
                </a:lnTo>
                <a:lnTo>
                  <a:pt x="20200" y="1400"/>
                </a:lnTo>
                <a:close/>
              </a:path>
              <a:path fill="darkenLess" w="21600" h="26218">
                <a:moveTo>
                  <a:pt x="21600" y="26218"/>
                </a:moveTo>
                <a:lnTo>
                  <a:pt x="0" y="26218"/>
                </a:lnTo>
                <a:lnTo>
                  <a:pt x="1400" y="24818"/>
                </a:lnTo>
                <a:lnTo>
                  <a:pt x="20200" y="24818"/>
                </a:lnTo>
                <a:close/>
              </a:path>
              <a:path fill="lighten" w="21600" h="26218">
                <a:moveTo>
                  <a:pt x="0" y="262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18"/>
                </a:lnTo>
                <a:close/>
              </a:path>
              <a:path fill="darken" w="21600" h="26218">
                <a:moveTo>
                  <a:pt x="10800" y="1711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218">
                <a:moveTo>
                  <a:pt x="11905" y="16590"/>
                </a:moveTo>
                <a:lnTo>
                  <a:pt x="11905" y="14632"/>
                </a:lnTo>
                <a:cubicBezTo>
                  <a:pt x="11905" y="13805"/>
                  <a:pt x="12236" y="13109"/>
                  <a:pt x="12837" y="13109"/>
                </a:cubicBezTo>
                <a:cubicBezTo>
                  <a:pt x="13968" y="13109"/>
                  <a:pt x="14865" y="11742"/>
                  <a:pt x="14865" y="10158"/>
                </a:cubicBezTo>
                <a:cubicBezTo>
                  <a:pt x="14865" y="7843"/>
                  <a:pt x="13011" y="6102"/>
                  <a:pt x="10800" y="6102"/>
                </a:cubicBezTo>
                <a:cubicBezTo>
                  <a:pt x="8589" y="6102"/>
                  <a:pt x="6918" y="7843"/>
                  <a:pt x="6918" y="10158"/>
                </a:cubicBezTo>
                <a:lnTo>
                  <a:pt x="8772" y="10158"/>
                </a:lnTo>
                <a:cubicBezTo>
                  <a:pt x="8772" y="9018"/>
                  <a:pt x="9695" y="8130"/>
                  <a:pt x="10800" y="8130"/>
                </a:cubicBezTo>
                <a:cubicBezTo>
                  <a:pt x="11905" y="8130"/>
                  <a:pt x="12837" y="9018"/>
                  <a:pt x="12837" y="10158"/>
                </a:cubicBezTo>
                <a:cubicBezTo>
                  <a:pt x="12837" y="10898"/>
                  <a:pt x="12367" y="11629"/>
                  <a:pt x="11905" y="11629"/>
                </a:cubicBezTo>
                <a:cubicBezTo>
                  <a:pt x="10800" y="11629"/>
                  <a:pt x="9695" y="13109"/>
                  <a:pt x="9695" y="14632"/>
                </a:cubicBezTo>
                <a:lnTo>
                  <a:pt x="9695" y="1659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35280" y="1052640"/>
            <a:ext cx="2160360" cy="6476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195640" y="6922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43280" y="9079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00000" y="40464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24000" y="26028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直觉告诉我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 △AD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似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通过相似的定义证明这个结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95280" y="1557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先证明两个三角形的对应角相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11280" y="2349360"/>
            <a:ext cx="561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△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D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与△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 ∠A=∠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DE//B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∴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DE=∠B, ∠AED=∠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1906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5335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三角形全等时，我们知道，除了可以通过证明对应角相等，对应边相等来判定两个三角形全等外，还有判定的简便方法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S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A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S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A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．类似地，判定两个三角形相似时，是不是对所有的对应角和对应边都要一一验证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549600"/>
            <a:ext cx="79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了证明相似三角形的判定定理，我们先来学习下面的平行线分线段成比例定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39640" y="1890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再证明两个三角形的对应边的比相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6094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EF//AB,EF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交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9640" y="990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平行四边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FED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DE=BF,DB=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527640" cy="3492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5381640" y="2349360"/>
            <a:ext cx="3529080" cy="374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4" name=""/>
          <p:cNvGraphicFramePr/>
          <p:nvPr/>
        </p:nvGraphicFramePr>
        <p:xfrm>
          <a:off x="914400" y="1523880"/>
          <a:ext cx="5257800" cy="450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523880"/>
                    <a:ext cx="5257800" cy="45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5665680" y="1905120"/>
            <a:ext cx="3478320" cy="368928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826920" y="99072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△A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A=∠A,∠ADE=∠B, ∠AED=∠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38080" y="422100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∴△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ADE∽△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066680" y="2170080"/>
          <a:ext cx="4496040" cy="16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170080"/>
                    <a:ext cx="449604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11280" y="1413000"/>
            <a:ext cx="7775640" cy="581400"/>
          </a:xfrm>
          <a:prstGeom prst="rect">
            <a:avLst/>
          </a:prstGeom>
          <a:solidFill>
            <a:srgbClr val="66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平行于三角形一边的直线和其他两边相交，所构成的三角形与原三角形相似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685880" y="2743200"/>
            <a:ext cx="31910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95280" y="476280"/>
            <a:ext cx="820908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rcRect l="0" t="0" r="14565" b="0"/>
          <a:stretch/>
        </p:blipFill>
        <p:spPr>
          <a:xfrm>
            <a:off x="826920" y="1290600"/>
            <a:ext cx="7274160" cy="51800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705720" y="3429000"/>
            <a:ext cx="1511280" cy="3024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64600" dir="67483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187280" y="2565360"/>
            <a:ext cx="6985080" cy="11509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63640" y="2924280"/>
            <a:ext cx="54723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64600" dir="67483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写出它们的对应边的比例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740720" y="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812000" y="3603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理解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468360" y="597384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95280" y="476280"/>
            <a:ext cx="820908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0880" y="990720"/>
            <a:ext cx="7467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已知：如图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AB∥EF ∥C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5535720" y="1971720"/>
            <a:ext cx="2820960" cy="38196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2362320" y="170496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75680" y="1828800"/>
            <a:ext cx="20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图中共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对相似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3838680"/>
            <a:ext cx="35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EOF∽△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4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B∥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971800" y="2467080"/>
            <a:ext cx="35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OB∽ △FO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3152880"/>
            <a:ext cx="35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B∥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62120" y="3838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F∥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2619360"/>
            <a:ext cx="644400" cy="320760"/>
          </a:xfrm>
          <a:prstGeom prst="rightArrow">
            <a:avLst>
              <a:gd name="adj1" fmla="val 50000"/>
              <a:gd name="adj2" fmla="val 50224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3305160"/>
            <a:ext cx="644400" cy="320760"/>
          </a:xfrm>
          <a:prstGeom prst="rightArrow">
            <a:avLst>
              <a:gd name="adj1" fmla="val 50000"/>
              <a:gd name="adj2" fmla="val 50224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362320" y="3914640"/>
            <a:ext cx="644400" cy="320760"/>
          </a:xfrm>
          <a:prstGeom prst="rightArrow">
            <a:avLst>
              <a:gd name="adj1" fmla="val 50000"/>
              <a:gd name="adj2" fmla="val 50224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71800" y="3200400"/>
            <a:ext cx="40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OB ∽△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740720" y="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812000" y="3603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理解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4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5"/>
          <a:stretch/>
        </p:blipFill>
        <p:spPr>
          <a:xfrm>
            <a:off x="0" y="617220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80880" y="457200"/>
            <a:ext cx="820908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172200" y="78120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62120" y="914400"/>
            <a:ext cx="7010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如图，△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</a:rPr>
              <a:t>ABC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中，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</a:rPr>
              <a:t>D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∥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</a:rPr>
              <a:t>BC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，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</a:rPr>
              <a:t>GF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∥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</a:rPr>
              <a:t>AB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D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ＧＦ交于点Ｏ，则图中与△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相似的三角形共有多少个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请你写出来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51460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解： 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相似的三角形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19320" y="3200400"/>
            <a:ext cx="2666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△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ＤＥ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△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ＧＦＣ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 △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ＧＯ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495680" y="2438280"/>
            <a:ext cx="3463920" cy="3533040"/>
            <a:chOff x="4495680" y="2438280"/>
            <a:chExt cx="3463920" cy="3533040"/>
          </a:xfrm>
        </p:grpSpPr>
        <p:sp>
          <p:nvSpPr>
            <p:cNvPr id="596" name=""/>
            <p:cNvSpPr/>
            <p:nvPr/>
          </p:nvSpPr>
          <p:spPr>
            <a:xfrm flipH="1">
              <a:off x="4885920" y="2987640"/>
              <a:ext cx="1584360" cy="2392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56040" y="5362560"/>
              <a:ext cx="2525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40400" y="2987640"/>
              <a:ext cx="941400" cy="237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5749920" y="3706560"/>
              <a:ext cx="100008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96040" y="2438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95680" y="5016240"/>
              <a:ext cx="5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81800" y="5016240"/>
              <a:ext cx="5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51440" y="39211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13400" y="4346280"/>
              <a:ext cx="5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86480" y="5511600"/>
              <a:ext cx="63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69080" y="3498840"/>
              <a:ext cx="5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69120" y="4498920"/>
              <a:ext cx="4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432400" y="4572000"/>
              <a:ext cx="1635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7740720" y="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7812000" y="3603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运用</a:t>
            </a: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4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6"/>
          <a:stretch/>
        </p:blipFill>
        <p:spPr>
          <a:xfrm>
            <a:off x="468360" y="597384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457200"/>
            <a:ext cx="820908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" y="9144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在平行四边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一点，连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延长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延长线于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找出相似的三角形并表示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975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80880" y="457200"/>
            <a:ext cx="876312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685800"/>
            <a:ext cx="88390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图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已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DE ∥ BC,AE=50cm,EC=30cm,BC=70c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BAC=45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∠ACB=40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求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E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D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大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;(2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D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62120" y="4038480"/>
            <a:ext cx="6705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133720" y="4572000"/>
                <a:ext cx="480060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即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所以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2" name=""/>
          <p:cNvGrpSpPr/>
          <p:nvPr/>
        </p:nvGrpSpPr>
        <p:grpSpPr>
          <a:xfrm>
            <a:off x="6018480" y="1295280"/>
            <a:ext cx="2869560" cy="2297160"/>
            <a:chOff x="6018480" y="1295280"/>
            <a:chExt cx="2869560" cy="2297160"/>
          </a:xfrm>
        </p:grpSpPr>
        <p:sp>
          <p:nvSpPr>
            <p:cNvPr id="623" name=""/>
            <p:cNvSpPr/>
            <p:nvPr/>
          </p:nvSpPr>
          <p:spPr>
            <a:xfrm flipV="1">
              <a:off x="6348600" y="1505880"/>
              <a:ext cx="2133360" cy="162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8024760" y="1506240"/>
              <a:ext cx="457200" cy="162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348600" y="3134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491600" y="2020320"/>
              <a:ext cx="30456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18480" y="3049200"/>
              <a:ext cx="4410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69400" y="3095280"/>
              <a:ext cx="4410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08200" y="3049200"/>
              <a:ext cx="4226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01320" y="1591560"/>
              <a:ext cx="4042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465400" y="1295280"/>
              <a:ext cx="4226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486360" y="1981080"/>
            <a:ext cx="10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1523880" y="2057400"/>
                <a:ext cx="4572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1447920" y="2514600"/>
                <a:ext cx="533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2156400" y="19810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∥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173680" y="251460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∽△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447920" y="2971800"/>
                <a:ext cx="533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2127600" y="2971800"/>
            <a:ext cx="26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D=∠C=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600200" y="4038480"/>
                <a:ext cx="4572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0" name=""/>
          <p:cNvSpPr/>
          <p:nvPr/>
        </p:nvSpPr>
        <p:spPr>
          <a:xfrm>
            <a:off x="2250000" y="396252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∽△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600200" y="4572000"/>
                <a:ext cx="53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7740720" y="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812000" y="3603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运用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4"/>
          <a:stretch/>
        </p:blipFill>
        <p:spPr>
          <a:xfrm>
            <a:off x="468360" y="597384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457200" y="3429000"/>
            <a:ext cx="849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∠ADE=18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4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9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  <p:sndAc>
      <p:stSnd>
        <p:snd r:embed="rId5" name="chimes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80880" y="457200"/>
            <a:ext cx="820908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468360" y="597384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609480" y="914400"/>
            <a:ext cx="8763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在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G∥EH∥FI∥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请找出图中所有的相似三角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B=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=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581280" y="3505320"/>
            <a:ext cx="3200400" cy="2882520"/>
            <a:chOff x="3581280" y="3505320"/>
            <a:chExt cx="3200400" cy="2882520"/>
          </a:xfrm>
        </p:grpSpPr>
        <p:sp>
          <p:nvSpPr>
            <p:cNvPr id="652" name=""/>
            <p:cNvSpPr/>
            <p:nvPr/>
          </p:nvSpPr>
          <p:spPr>
            <a:xfrm flipH="1">
              <a:off x="3962160" y="3962160"/>
              <a:ext cx="1447920" cy="205704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62160" y="6019560"/>
              <a:ext cx="2362320" cy="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flipV="1">
              <a:off x="5410080" y="3962160"/>
              <a:ext cx="914400" cy="205704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76560" y="4647960"/>
              <a:ext cx="838080" cy="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47960" y="5105160"/>
              <a:ext cx="1295280" cy="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81480" y="35053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81280" y="5867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48160" y="57909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95680" y="43574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90760" y="47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62160" y="52718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38680" y="4343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67080" y="5562360"/>
              <a:ext cx="1828800" cy="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867280" y="4738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95880" y="5195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990720" y="22240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DG∽△AEH∽△AFI∽△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020000" y="27813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740720" y="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7812000" y="3603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运用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828800" y="1194120"/>
            <a:ext cx="6939720" cy="4926960"/>
            <a:chOff x="1828800" y="1194120"/>
            <a:chExt cx="6939720" cy="4926960"/>
          </a:xfrm>
        </p:grpSpPr>
        <p:sp>
          <p:nvSpPr>
            <p:cNvPr id="57" name=""/>
            <p:cNvSpPr/>
            <p:nvPr/>
          </p:nvSpPr>
          <p:spPr>
            <a:xfrm>
              <a:off x="1828800" y="2590920"/>
              <a:ext cx="5715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35053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51055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391480" y="1386000"/>
              <a:ext cx="1465200" cy="4619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6760" y="1194120"/>
              <a:ext cx="1827000" cy="492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35040" y="1955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35040" y="3098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11000" y="439416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058840" y="1828800"/>
            <a:ext cx="4245120" cy="3416040"/>
            <a:chOff x="2058840" y="1828800"/>
            <a:chExt cx="4245120" cy="3416040"/>
          </a:xfrm>
        </p:grpSpPr>
        <p:sp>
          <p:nvSpPr>
            <p:cNvPr id="66" name=""/>
            <p:cNvSpPr/>
            <p:nvPr/>
          </p:nvSpPr>
          <p:spPr>
            <a:xfrm>
              <a:off x="2820960" y="18288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92360" y="281952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8840" y="441972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30640" y="182880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59240" y="27432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16440" y="43434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200400" y="609480"/>
            <a:ext cx="1828800" cy="901440"/>
            <a:chOff x="3200400" y="609480"/>
            <a:chExt cx="1828800" cy="901440"/>
          </a:xfrm>
        </p:grpSpPr>
        <p:sp>
          <p:nvSpPr>
            <p:cNvPr id="73" name=""/>
            <p:cNvSpPr/>
            <p:nvPr/>
          </p:nvSpPr>
          <p:spPr>
            <a:xfrm>
              <a:off x="3200400" y="685800"/>
              <a:ext cx="895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L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24160" y="609480"/>
              <a:ext cx="90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L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533520" y="1752480"/>
            <a:ext cx="4606200" cy="4437360"/>
            <a:chOff x="533520" y="1752480"/>
            <a:chExt cx="4606200" cy="4437360"/>
          </a:xfrm>
        </p:grpSpPr>
        <p:sp>
          <p:nvSpPr>
            <p:cNvPr id="76" name=""/>
            <p:cNvSpPr/>
            <p:nvPr/>
          </p:nvSpPr>
          <p:spPr>
            <a:xfrm>
              <a:off x="2019960" y="1752480"/>
              <a:ext cx="25275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Times New Roman"/>
                  <a:ea typeface="隶书"/>
                </a:rPr>
                <a:t>定理的符号语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533520" y="2717640"/>
              <a:ext cx="4430520" cy="2730240"/>
              <a:chOff x="533520" y="2717640"/>
              <a:chExt cx="4430520" cy="2730240"/>
            </a:xfrm>
          </p:grpSpPr>
          <p:sp>
            <p:nvSpPr>
              <p:cNvPr id="78" name=""/>
              <p:cNvSpPr/>
              <p:nvPr/>
            </p:nvSpPr>
            <p:spPr>
              <a:xfrm>
                <a:off x="533520" y="28702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14400" y="28702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5800" y="3251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72680" y="2717640"/>
                <a:ext cx="2690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L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3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//L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4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//L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38080" y="45464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454644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5800" y="42418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897280" y="3936960"/>
                <a:ext cx="61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27040" y="4530600"/>
                <a:ext cx="1239840" cy="15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687840" y="4498920"/>
                <a:ext cx="1276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449000" y="3632040"/>
                <a:ext cx="1028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35000" y="3556080"/>
                <a:ext cx="1028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D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9000" y="4622760"/>
                <a:ext cx="1028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12040" y="4546440"/>
                <a:ext cx="959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EF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024560" y="5486400"/>
              <a:ext cx="411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平行线分线段成比例定理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28600" y="228600"/>
            <a:ext cx="685800" cy="762120"/>
          </a:xfrm>
          <a:custGeom>
            <a:avLst/>
            <a:gdLst>
              <a:gd name="textAreaLeft" fmla="*/ 282600 w 685800"/>
              <a:gd name="textAreaRight" fmla="*/ 403200 w 685800"/>
              <a:gd name="textAreaTop" fmla="*/ 313920 h 762120"/>
              <a:gd name="textAreaBottom" fmla="*/ 448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47920"/>
            <a:ext cx="914400" cy="838080"/>
          </a:xfrm>
          <a:prstGeom prst="lightningBol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66680" y="609480"/>
          <a:ext cx="1062000" cy="9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106200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1447920" y="228600"/>
            <a:ext cx="6117120" cy="1495800"/>
            <a:chOff x="1447920" y="228600"/>
            <a:chExt cx="6117120" cy="1495800"/>
          </a:xfrm>
        </p:grpSpPr>
        <p:sp>
          <p:nvSpPr>
            <p:cNvPr id="98" name=""/>
            <p:cNvSpPr/>
            <p:nvPr/>
          </p:nvSpPr>
          <p:spPr>
            <a:xfrm>
              <a:off x="1767600" y="1143000"/>
              <a:ext cx="579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三条平行线截两条直线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所得的对应线段的比相等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447920" y="228600"/>
              <a:ext cx="1981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atin typeface="华文琥珀"/>
                </a:rPr>
                <a:t>定理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华文琥珀"/>
                <a:ea typeface="华文琥珀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08560" y="1600200"/>
            <a:ext cx="3834360" cy="3657600"/>
            <a:chOff x="5308560" y="1600200"/>
            <a:chExt cx="3834360" cy="3657600"/>
          </a:xfrm>
        </p:grpSpPr>
        <p:grpSp>
          <p:nvGrpSpPr>
            <p:cNvPr id="101" name=""/>
            <p:cNvGrpSpPr/>
            <p:nvPr/>
          </p:nvGrpSpPr>
          <p:grpSpPr>
            <a:xfrm>
              <a:off x="5308560" y="1949400"/>
              <a:ext cx="3111480" cy="3308400"/>
              <a:chOff x="5308560" y="1949400"/>
              <a:chExt cx="3111480" cy="3308400"/>
            </a:xfrm>
          </p:grpSpPr>
          <p:sp>
            <p:nvSpPr>
              <p:cNvPr id="102" name=""/>
              <p:cNvSpPr/>
              <p:nvPr/>
            </p:nvSpPr>
            <p:spPr>
              <a:xfrm>
                <a:off x="5384880" y="2743200"/>
                <a:ext cx="2995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84880" y="3352680"/>
                <a:ext cx="3035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08560" y="4419720"/>
                <a:ext cx="3035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37360" y="2057400"/>
                <a:ext cx="798480" cy="3200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790960" y="1949400"/>
                <a:ext cx="718920" cy="2957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88200" y="2209680"/>
              <a:ext cx="2738160" cy="2334240"/>
              <a:chOff x="5488200" y="2209680"/>
              <a:chExt cx="2738160" cy="2334240"/>
            </a:xfrm>
          </p:grpSpPr>
          <p:sp>
            <p:nvSpPr>
              <p:cNvPr id="108" name=""/>
              <p:cNvSpPr/>
              <p:nvPr/>
            </p:nvSpPr>
            <p:spPr>
              <a:xfrm>
                <a:off x="7316640" y="22096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469280" y="2849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774200" y="3886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45400" y="2209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92760" y="2849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488200" y="3962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173280" y="1600200"/>
              <a:ext cx="2969640" cy="3111480"/>
              <a:chOff x="6173280" y="1600200"/>
              <a:chExt cx="2969640" cy="3111480"/>
            </a:xfrm>
          </p:grpSpPr>
          <p:sp>
            <p:nvSpPr>
              <p:cNvPr id="115" name=""/>
              <p:cNvSpPr/>
              <p:nvPr/>
            </p:nvSpPr>
            <p:spPr>
              <a:xfrm>
                <a:off x="8509680" y="251460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57400" y="335268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282520" y="419112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6173280" y="1600200"/>
                <a:ext cx="1342080" cy="581400"/>
                <a:chOff x="6173280" y="1600200"/>
                <a:chExt cx="1342080" cy="581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173280" y="1600200"/>
                  <a:ext cx="65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859080" y="1600200"/>
                  <a:ext cx="65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828800" y="1194120"/>
            <a:ext cx="6939720" cy="4926960"/>
            <a:chOff x="1828800" y="1194120"/>
            <a:chExt cx="6939720" cy="4926960"/>
          </a:xfrm>
        </p:grpSpPr>
        <p:sp>
          <p:nvSpPr>
            <p:cNvPr id="122" name=""/>
            <p:cNvSpPr/>
            <p:nvPr/>
          </p:nvSpPr>
          <p:spPr>
            <a:xfrm>
              <a:off x="1828800" y="2590920"/>
              <a:ext cx="5715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28800" y="35053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51055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91480" y="1386000"/>
              <a:ext cx="1465200" cy="4619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96760" y="1194120"/>
              <a:ext cx="1827000" cy="492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35040" y="1955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35040" y="3098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11000" y="439416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058840" y="1828800"/>
            <a:ext cx="4245120" cy="3416040"/>
            <a:chOff x="2058840" y="1828800"/>
            <a:chExt cx="4245120" cy="3416040"/>
          </a:xfrm>
        </p:grpSpPr>
        <p:sp>
          <p:nvSpPr>
            <p:cNvPr id="131" name=""/>
            <p:cNvSpPr/>
            <p:nvPr/>
          </p:nvSpPr>
          <p:spPr>
            <a:xfrm>
              <a:off x="2820960" y="18288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2360" y="281952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58840" y="441972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30640" y="182880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59240" y="27432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16440" y="43434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00400" y="609480"/>
            <a:ext cx="1828800" cy="901440"/>
            <a:chOff x="3200400" y="609480"/>
            <a:chExt cx="1828800" cy="901440"/>
          </a:xfrm>
        </p:grpSpPr>
        <p:sp>
          <p:nvSpPr>
            <p:cNvPr id="138" name=""/>
            <p:cNvSpPr/>
            <p:nvPr/>
          </p:nvSpPr>
          <p:spPr>
            <a:xfrm>
              <a:off x="3200400" y="685800"/>
              <a:ext cx="895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L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24160" y="609480"/>
              <a:ext cx="90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L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5053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391480" y="1386000"/>
            <a:ext cx="1465200" cy="46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6760" y="1194120"/>
            <a:ext cx="1827000" cy="492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8160" y="68580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9480" y="53352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828800" y="1367280"/>
            <a:ext cx="6939720" cy="4580640"/>
            <a:chOff x="1828800" y="1367280"/>
            <a:chExt cx="6939720" cy="4580640"/>
          </a:xfrm>
        </p:grpSpPr>
        <p:sp>
          <p:nvSpPr>
            <p:cNvPr id="151" name=""/>
            <p:cNvSpPr/>
            <p:nvPr/>
          </p:nvSpPr>
          <p:spPr>
            <a:xfrm>
              <a:off x="1828800" y="2590920"/>
              <a:ext cx="5715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3505320"/>
              <a:ext cx="579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51055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054160" y="1521360"/>
              <a:ext cx="2139840" cy="434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22360" y="1367280"/>
              <a:ext cx="2575800" cy="458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5040" y="1955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35040" y="3098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11000" y="439416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277800" y="762120"/>
            <a:ext cx="16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169000" y="1581120"/>
            <a:ext cx="2367360" cy="422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0800" y="1648440"/>
            <a:ext cx="2754000" cy="447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24160" y="838080"/>
            <a:ext cx="8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762120"/>
            <a:ext cx="9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69000" y="1581120"/>
            <a:ext cx="2367360" cy="422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0800" y="1648440"/>
            <a:ext cx="2754000" cy="447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24160" y="838080"/>
            <a:ext cx="8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762120"/>
            <a:ext cx="9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czsx.com.cn</dc:creator>
  <dc:description>www.czsx.com.cn</dc:description>
  <dc:language>en-US</dc:language>
  <cp:lastModifiedBy>User</cp:lastModifiedBy>
  <dcterms:modified xsi:type="dcterms:W3CDTF">2012-12-18T07:51:47Z</dcterms:modified>
  <cp:revision>55</cp:revision>
  <dc:subject/>
  <dc:title>www.czsx.com.c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